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913676F-4CA6-4454-9E29-FF75A79D6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M2 staffing in TFA programs, include the Technical Focal Lead, RTA(s), STTAs, M2 backstops and M2 supported consultants involved in any technical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670A4-092B-441D-9CB9-DB1D50841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23760" y="351756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4AD19-0368-41B8-9FAD-F53E64F499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23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334CF-0209-4B04-B649-8688CCCBB4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8520" y="14479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3280" y="14479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23760" y="35175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8520" y="35175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3280" y="35175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5D42E-57EA-48CF-8233-54DA1A849D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23760" y="14479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23400" y="217440"/>
            <a:ext cx="77914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23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23760" y="14479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9CA20-243B-4095-84A4-96679C12A5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1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23760" y="351756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23760" y="351756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23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1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48520" y="14479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73280" y="14479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23760" y="35175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48520" y="35175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73280" y="35175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23760" y="14479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F7707-478E-49BA-AA97-FE2553B17DE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923400" y="217440"/>
            <a:ext cx="77914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23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01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23760" y="351756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923760" y="351756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23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01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48520" y="14479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73280" y="144792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923760" y="35175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48520" y="35175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73280" y="3517560"/>
            <a:ext cx="24994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3D61C-F11C-4193-A339-7F7397BC9F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6FC68-AEE2-4AC2-8428-DAB040ACAA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23400" y="217440"/>
            <a:ext cx="77914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2DC7C-F839-4EE2-84EF-5E46425CB7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23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EBC40-7EBF-4FDF-881C-24293726A3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760" y="351756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60F37-95AE-48E2-9E62-95456B1182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23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760" y="1447920"/>
            <a:ext cx="37882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23760" y="3517560"/>
            <a:ext cx="7763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8203B-96DC-4E40-A4BC-EBE62C73AE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3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23760" y="1447920"/>
            <a:ext cx="7763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358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270080" y="6477120"/>
            <a:ext cx="756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14120" y="6381360"/>
            <a:ext cx="638316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69696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3840" y="6324480"/>
            <a:ext cx="8886960" cy="0"/>
          </a:xfrm>
          <a:prstGeom prst="line">
            <a:avLst/>
          </a:prstGeom>
          <a:ln w="28440">
            <a:solidFill>
              <a:srgbClr val="2b3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9140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0c0c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572E-9C3F-40C0-9C92-5DE5ADA7EF5E}" type="slidenum">
              <a:rPr b="1" lang="en-US" sz="1200" spc="-1" strike="noStrike">
                <a:solidFill>
                  <a:srgbClr val="c0c0c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600280" y="5010120"/>
            <a:ext cx="167328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809960" y="5010120"/>
            <a:ext cx="1447920" cy="1371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779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se Study – 2: Indicator selec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23400" y="1447560"/>
            <a:ext cx="800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3585"/>
                </a:solidFill>
                <a:latin typeface="Arial"/>
              </a:rPr>
              <a:t>Work in same groups as for Framework case study</a:t>
            </a:r>
            <a:endParaRPr b="0" lang="en-US" sz="2200" spc="-1" strike="noStrike">
              <a:solidFill>
                <a:srgbClr val="2b3585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3585"/>
                </a:solidFill>
                <a:latin typeface="Arial"/>
              </a:rPr>
              <a:t>Based on your M&amp;E Framework, select 2-3 indicators from the Compendium for each f the various components (i.e., inputs, processes, outputs, outcomes, impact)</a:t>
            </a:r>
            <a:endParaRPr b="0" lang="en-US" sz="2200" spc="-1" strike="noStrike">
              <a:solidFill>
                <a:srgbClr val="2b3585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2b3585"/>
                </a:solidFill>
                <a:uFillTx/>
                <a:latin typeface="Arial"/>
              </a:rPr>
              <a:t>Be prepared to justify your indicator selection</a:t>
            </a:r>
            <a:endParaRPr b="0" lang="en-US" sz="2200" spc="-1" strike="noStrike">
              <a:solidFill>
                <a:srgbClr val="2b3585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3585"/>
                </a:solidFill>
                <a:latin typeface="Arial"/>
              </a:rPr>
              <a:t>Rabota v tekh zhe grupakh, v kotorykh rasssmatrivalsya practichesky primer razrabotky ramok</a:t>
            </a:r>
            <a:endParaRPr b="0" lang="en-US" sz="2200" spc="-1" strike="noStrike">
              <a:solidFill>
                <a:srgbClr val="2b3585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3585"/>
                </a:solidFill>
                <a:latin typeface="Arial"/>
              </a:rPr>
              <a:t>Na osnovanii razrabotannykh vami ramok M&amp;E vyberite indicatory iz Compendiuma dlya kazhdogo is sleduyushchikh componentov (naprimer, vkladyvayemyye resursy, processy, rezultaty, itogi, vozdejstviye)</a:t>
            </a:r>
            <a:endParaRPr b="0" lang="en-US" sz="2200" spc="-1" strike="noStrike">
              <a:solidFill>
                <a:srgbClr val="2b3585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3585"/>
                </a:solidFill>
                <a:latin typeface="Arial"/>
              </a:rPr>
              <a:t>Bud’te gotovy obosnovat’ vybor vashykh indicatorov   </a:t>
            </a:r>
            <a:endParaRPr b="0" lang="en-US" sz="2200" spc="-1" strike="noStrike">
              <a:solidFill>
                <a:srgbClr val="2b35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&amp;E Regional Worskhop on Monitoring and Evaluation of TB Pro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A5DB7-BB0B-4A7E-AEC5-A03F888E8C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16:38:47Z</dcterms:created>
  <dc:creator>Carolina Population Center</dc:creator>
  <dc:description/>
  <dc:language>en-US</dc:language>
  <cp:lastModifiedBy>Stephanie Mullen</cp:lastModifiedBy>
  <dcterms:modified xsi:type="dcterms:W3CDTF">2006-05-23T12:54:17Z</dcterms:modified>
  <cp:revision>17</cp:revision>
  <dc:subject/>
  <dc:title>MEASURE Evaluation Co-branding Guidelines</dc:title>
</cp:coreProperties>
</file>